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18EB2-321D-40F8-83EB-06E95E58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04E2-309E-40E5-8CD9-90582CB1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5AF-456E-4581-B8DB-02617D5E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E9A-476D-4297-A42D-098E28982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8139-C092-4CF0-AF9A-13BDFD019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6680E-0E57-40F6-9D5C-351719DE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09B4-11C0-4897-B194-AA0748EA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567B0-1DAB-42E7-8AE3-A96CA3938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E3AB0-F6DE-46AB-A7DC-B83DC01E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91B9C-89D7-4628-A549-4DDAD11A9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6B4A-0AEF-4F46-A148-8AFEB7BB6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010-7270-4E9A-A76E-744C6EA7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2EE4A-0D5C-41A8-81C8-67698761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72370-5BDE-466D-96B2-E2E89B836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20E3A-0018-4B98-8D97-746568EF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279C3-B462-4DA4-A8C7-48841ADCC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22CFD-13F4-4D3A-A81F-DF74659E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6D585-B891-4953-BECC-D709C1392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CF47-5B66-4F8D-88A9-409973C4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9755-5E36-4437-A65A-9C81C6B44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A21B-DBB6-4D59-9927-24EBCD6D5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CE97-BFD0-4228-91A1-6433E228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715-3410-4927-AC52-A4B803864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3D52-7699-470B-9A83-98E5F090A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EE12-C6B8-45DD-BBDB-2612AB75F1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6C4BC-D451-47CA-9A67-C69AA432BB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Why Use Spreadsheets?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hart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981080" y="2057400"/>
            <a:ext cx="510552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Estimation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7632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eather Data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489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h, and you can plan the budget for a picnic, too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9724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3:42:48Z</dcterms:created>
  <dc:creator>CMCSS CMCSS</dc:creator>
  <dc:description/>
  <cp:keywords/>
  <dc:language>en-US</dc:language>
  <cp:lastModifiedBy>CMCSS CMCSS</cp:lastModifiedBy>
  <cp:lastPrinted>1904-01-01T00:00:00Z</cp:lastPrinted>
  <dcterms:modified xsi:type="dcterms:W3CDTF">2010-06-09T16:02:07Z</dcterms:modified>
  <cp:revision>3</cp:revision>
  <dc:subject/>
  <dc:title>Why Use Excel?</dc:title>
</cp:coreProperties>
</file>